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998-0898-436B-A7EF-5A6DBF40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D79-DCED-45B1-8BC0-C2F881B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7CE-B3B7-46D4-9BF1-3EB4ED04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8B6-3F83-4F67-9FEB-F5F9D728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8E6-A844-4BD8-B45C-CCD7565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7E1-34AC-4642-87E2-6D9768CA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65B-8CFC-4803-B601-D3799B2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F5A-73DF-441A-AD08-9B593E1D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190-DBFE-477D-8133-560D3A2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BC0-F44F-4E2F-A4E7-CFB5115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8F6-5238-4AA4-A98D-1DFEFE7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04D-DE3C-424D-85AC-DE9983E8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536D-8924-471B-BC73-B0839A121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ke Up Bell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up bellwork is for those who are absent and need to make up a day or two of bell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ur nearest star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our sun create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 is ball or sphere of gases that produces energy through the fusion of ______ into 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energy reach us from the su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. Fusion is when lighter elements combine to make ____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3352680"/>
            <a:ext cx="19047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Hydrogen Fusion burns _____ into 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yer of the sun that can only be seen during a n eclipse is called the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unspot cycle repeats every _______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un produces energy by forming helium in its 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uring hydrogen fusion, _______ hydrogen atoms come together to make _____ helium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335268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 is a ball or sphere of gases that produces heat and light through the ____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sion is the combining of ____elements (hydrogen) to form ____elements (hel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Our sun converts _____ into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ydrogen fusion takes place in the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uring hydrogen fusion, _______ hydrogen atoms come together to make _____ helium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335268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4800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 an H-R diagram, bright blue stars are in the _____  ____ corner of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 an H-R diagram, cool, red dim stars are in the _____  _____ co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 the H-R diagram to answer the following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n the H-R diagram The sun is  at position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4800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equence stars include locations ___,____, and 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276720"/>
            <a:ext cx="190512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3103560"/>
            <a:ext cx="4191120" cy="375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10800000">
            <a:off x="7162560" y="3504240"/>
            <a:ext cx="6555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8488080" y="3961440"/>
            <a:ext cx="6555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800000">
            <a:off x="8238960" y="5834520"/>
            <a:ext cx="5241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800000">
            <a:off x="5648040" y="4234320"/>
            <a:ext cx="5238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0800000">
            <a:off x="7162560" y="5028120"/>
            <a:ext cx="5238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0666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e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Helium (#2) through Iron (#26) formed during ______ in massive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larger than Iron, formed in a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it’s main sequence phase, our sun will spend most of it’s ___ billion year lifespan fusing hydrogen into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ll stars are born in a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to which of the following life cycle stages will the sun enter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35268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g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4:29:48Z</dcterms:created>
  <dc:creator>jfuller</dc:creator>
  <dc:description/>
  <dc:language>en-US</dc:language>
  <cp:lastModifiedBy>jfuller</cp:lastModifiedBy>
  <dcterms:modified xsi:type="dcterms:W3CDTF">2012-01-31T22:38:42Z</dcterms:modified>
  <cp:revision>3</cp:revision>
  <dc:subject/>
  <dc:title>Make Up Bellwork</dc:title>
</cp:coreProperties>
</file>